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click.wav" ContentType="audio/x-wav"/>
  <Override PartName="/ppt/media/image6.wmf" ContentType="image/x-wmf"/>
  <Override PartName="/ppt/media/image15.wmf" ContentType="image/x-wmf"/>
  <Override PartName="/ppt/media/image1.jpeg" ContentType="image/jpeg"/>
  <Override PartName="/ppt/media/image11.wmf" ContentType="image/x-wmf"/>
  <Override PartName="/ppt/media/image3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D95A-3A35-45E0-ADA7-1F5CCC4AB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унок -  гиперссылка на «Живую геометрию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деленные слова - гипер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определения стрелка – возврат на ит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лка -  возврат на ит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нига -  гиперссылка на 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определения книги - гиперссылки на рису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A7B-5171-4835-947B-D55DF945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AF8-5208-4E4D-A357-46577DE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8D6-04B9-49C1-8354-CA78E81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2BA-5F27-4F4B-B9CB-21B23B4B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6D84-ABE8-4BC4-8879-0B23A5F4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532-2BCE-4FBE-B0AF-54209EF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FAAE-1643-429C-BE72-75FAF87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9C5-E986-448C-A010-B9910D0D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87B7-D203-424A-8FAA-9246487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924C-E524-4AA3-9FE3-FDAA6408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BAF-153C-4375-9128-ECBD08A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8C5-A2B3-46AE-89F3-FC4BB42D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DB0B-14C4-480A-B578-5D132937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1B6-54D4-4B32-B16D-59F8639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62F6-BBFB-4C70-B03E-BAC7C7E9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003-FE3F-443D-8DC6-7FB6396A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300F-D9D6-4F1C-9E5A-22F91CAE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709C-9A26-4D73-9E8B-4C06EC51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1414-317F-43FD-AD30-E40091F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D05E-546B-4187-93A5-A2EC87C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ADBB-2DE3-4620-A978-BF74C332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6994-D473-467B-9C88-C2138DF4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27C-E78A-4A98-925F-FF2EA51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3EB9-09E8-403F-97C5-4389736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D86C-E387-4453-AF2E-EB805F8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2824-654B-4E16-AD3B-FF9811CA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1C6E-A750-4A71-8C81-B0F3E027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9D69-1943-4A77-B2CF-7E8E93C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58B4-AA8A-4AC4-9831-6DBE0678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E681-0E97-4AC2-9A6A-D391D69D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1558-EF22-4363-95B9-741F33DB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7E32-7A6E-4998-8F2B-6AB5EB7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B9DC-BBDB-4C92-8E7D-27A6A4B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147-71B9-4427-A253-21C116E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5AE3-0CDF-4440-9E70-99EB3205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D527-2594-43B5-BF36-1884B94D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02AB-E567-450D-9D35-7A5DC3D2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7506-FC22-41F9-AC4C-4622DA6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7876-A444-4CFE-8416-E28218D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4FC0-0EA0-43B0-8226-D8BF09A3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B39F-B599-4940-8A36-42FAD57B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7F95-14D9-4B77-AAB9-A06F8B0B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2B9A-EB5A-4DB4-B33D-04AC9318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AE6ED-5D1D-4DD2-88D5-926B07CD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B86-611A-44A2-97CF-98F4BFD5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9247-A306-45B5-AA62-4A1FCF7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772E-6F2F-40C3-AD7C-6CDEEEE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28D4-6BA7-4040-BB40-58597AA0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0DC1-7180-4ADF-A430-FBF1EFD4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EE40-4A38-437B-90C5-C226A7E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D542-742A-4B20-A865-4FCA417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80C6-D642-4E7D-A08D-C750F28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E866D-894D-4C90-B780-EC34521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633C-9F20-4C33-BCFC-8D1D39CD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00AF-7BCA-46CF-B5B7-61F23CD9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9ED-4AF8-47DC-8B42-07497942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DF89-AB41-4BA6-819A-5D27BBDB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CA1-7DF7-415B-B9A1-22C266D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AB9-B700-4B9D-9498-DF9B4125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753-6694-4DF0-BAA4-A5E9346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F7FA-FBB8-4865-8B86-2E4061405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4680"/>
            <a:ext cx="9144000" cy="6862680"/>
            <a:chOff x="0" y="-4680"/>
            <a:chExt cx="9144000" cy="6862680"/>
          </a:xfrm>
        </p:grpSpPr>
        <p:grpSp>
          <p:nvGrpSpPr>
            <p:cNvPr id="42" name=""/>
            <p:cNvGrpSpPr/>
            <p:nvPr/>
          </p:nvGrpSpPr>
          <p:grpSpPr>
            <a:xfrm>
              <a:off x="0" y="-4680"/>
              <a:ext cx="8915400" cy="6858000"/>
              <a:chOff x="0" y="-4680"/>
              <a:chExt cx="8915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28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14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43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71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600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828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57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86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14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43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71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00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429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57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86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14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43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572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00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29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86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15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943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172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00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29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58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86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15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43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72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010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2296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582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6868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15400" y="-4680"/>
                <a:ext cx="0" cy="685800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0" y="228600"/>
              <a:ext cx="9144000" cy="3429000"/>
              <a:chOff x="0" y="228600"/>
              <a:chExt cx="9144000" cy="34290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0" y="228600"/>
                <a:ext cx="9144000" cy="1600200"/>
                <a:chOff x="0" y="228600"/>
                <a:chExt cx="9144000" cy="1600200"/>
              </a:xfrm>
            </p:grpSpPr>
            <p:grpSp>
              <p:nvGrpSpPr>
                <p:cNvPr id="85" name=""/>
                <p:cNvGrpSpPr/>
                <p:nvPr/>
              </p:nvGrpSpPr>
              <p:grpSpPr>
                <a:xfrm>
                  <a:off x="0" y="228600"/>
                  <a:ext cx="9144000" cy="685800"/>
                  <a:chOff x="0" y="228600"/>
                  <a:chExt cx="9144000" cy="68580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228600"/>
                    <a:ext cx="9144000" cy="228600"/>
                    <a:chOff x="0" y="228600"/>
                    <a:chExt cx="9144000" cy="22860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0" y="2286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0" y="4572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0" y="685800"/>
                    <a:ext cx="9144000" cy="228600"/>
                    <a:chOff x="0" y="685800"/>
                    <a:chExt cx="9144000" cy="22860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0" y="6858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0" y="9144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0" y="1143000"/>
                  <a:ext cx="9144000" cy="685800"/>
                  <a:chOff x="0" y="1143000"/>
                  <a:chExt cx="9144000" cy="685800"/>
                </a:xfrm>
              </p:grpSpPr>
              <p:grpSp>
                <p:nvGrpSpPr>
                  <p:cNvPr id="93" name=""/>
                  <p:cNvGrpSpPr/>
                  <p:nvPr/>
                </p:nvGrpSpPr>
                <p:grpSpPr>
                  <a:xfrm>
                    <a:off x="0" y="1143000"/>
                    <a:ext cx="9144000" cy="228600"/>
                    <a:chOff x="0" y="1143000"/>
                    <a:chExt cx="9144000" cy="22860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0" y="1143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0" y="13716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0" y="1600200"/>
                    <a:ext cx="9144000" cy="228600"/>
                    <a:chOff x="0" y="1600200"/>
                    <a:chExt cx="9144000" cy="22860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0" y="16002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0" y="18288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0" y="2057400"/>
                <a:ext cx="9144000" cy="1600200"/>
                <a:chOff x="0" y="2057400"/>
                <a:chExt cx="9144000" cy="1600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0" y="2057400"/>
                  <a:ext cx="9144000" cy="685800"/>
                  <a:chOff x="0" y="2057400"/>
                  <a:chExt cx="9144000" cy="68580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0" y="2057400"/>
                    <a:ext cx="9144000" cy="228600"/>
                    <a:chOff x="0" y="2057400"/>
                    <a:chExt cx="9144000" cy="22860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0" y="20574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0" y="2286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0" y="2514600"/>
                    <a:ext cx="9144000" cy="228600"/>
                    <a:chOff x="0" y="2514600"/>
                    <a:chExt cx="9144000" cy="22860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0" y="25146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0" y="27432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0" y="2971800"/>
                  <a:ext cx="9144000" cy="685800"/>
                  <a:chOff x="0" y="2971800"/>
                  <a:chExt cx="9144000" cy="68580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0" y="2971800"/>
                    <a:ext cx="9144000" cy="228600"/>
                    <a:chOff x="0" y="2971800"/>
                    <a:chExt cx="9144000" cy="22860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0" y="29718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0" y="32004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0" y="3429000"/>
                    <a:ext cx="9144000" cy="228600"/>
                    <a:chOff x="0" y="3429000"/>
                    <a:chExt cx="9144000" cy="22860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4290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0" y="3657600"/>
                      <a:ext cx="9144000" cy="0"/>
                    </a:xfrm>
                    <a:prstGeom prst="line">
                      <a:avLst/>
                    </a:prstGeom>
                    <a:ln w="9360">
                      <a:solidFill>
                        <a:srgbClr val="cce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4" name=""/>
            <p:cNvGrpSpPr/>
            <p:nvPr/>
          </p:nvGrpSpPr>
          <p:grpSpPr>
            <a:xfrm>
              <a:off x="0" y="3886200"/>
              <a:ext cx="9144000" cy="685800"/>
              <a:chOff x="0" y="3886200"/>
              <a:chExt cx="9144000" cy="6858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0" y="3886200"/>
                <a:ext cx="9144000" cy="228600"/>
                <a:chOff x="0" y="3886200"/>
                <a:chExt cx="9144000" cy="2286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0" y="3886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4114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0" y="4343400"/>
                <a:ext cx="9144000" cy="228600"/>
                <a:chOff x="0" y="4343400"/>
                <a:chExt cx="9144000" cy="2286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0" y="4343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0" y="4800600"/>
              <a:ext cx="9144000" cy="685800"/>
              <a:chOff x="0" y="4800600"/>
              <a:chExt cx="9144000" cy="6858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0" y="4800600"/>
                <a:ext cx="9144000" cy="228600"/>
                <a:chOff x="0" y="4800600"/>
                <a:chExt cx="9144000" cy="228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0" y="4800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029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5257800"/>
                <a:ext cx="9144000" cy="228600"/>
                <a:chOff x="0" y="5257800"/>
                <a:chExt cx="9144000" cy="2286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5257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0" y="5715000"/>
              <a:ext cx="9144000" cy="228600"/>
              <a:chOff x="0" y="5715000"/>
              <a:chExt cx="9144000" cy="22860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57150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9436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6172200"/>
              <a:ext cx="9144000" cy="228600"/>
              <a:chOff x="0" y="6172200"/>
              <a:chExt cx="9144000" cy="22860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61722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759-03E4-4A22-8F61-589AB73B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-4680"/>
            <a:ext cx="9144000" cy="6862680"/>
            <a:chOff x="0" y="-4680"/>
            <a:chExt cx="9144000" cy="6862680"/>
          </a:xfrm>
        </p:grpSpPr>
        <p:grpSp>
          <p:nvGrpSpPr>
            <p:cNvPr id="178" name=""/>
            <p:cNvGrpSpPr/>
            <p:nvPr/>
          </p:nvGrpSpPr>
          <p:grpSpPr>
            <a:xfrm>
              <a:off x="0" y="-4680"/>
              <a:ext cx="9144000" cy="6862680"/>
              <a:chOff x="0" y="-4680"/>
              <a:chExt cx="9144000" cy="6862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0" y="-4680"/>
                <a:ext cx="8915400" cy="6858000"/>
                <a:chOff x="0" y="-4680"/>
                <a:chExt cx="8915400" cy="6858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28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7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5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914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143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371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600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28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57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286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514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971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00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429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57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886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14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343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572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00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029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257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486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15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943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72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400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629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858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86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315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543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772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0010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296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4582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868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915400" y="-4680"/>
                  <a:ext cx="0" cy="685800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0" y="228600"/>
                <a:ext cx="9144000" cy="3429000"/>
                <a:chOff x="0" y="228600"/>
                <a:chExt cx="9144000" cy="342900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0" y="228600"/>
                  <a:ext cx="9144000" cy="1600200"/>
                  <a:chOff x="0" y="228600"/>
                  <a:chExt cx="9144000" cy="160020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0" y="228600"/>
                    <a:ext cx="9144000" cy="685800"/>
                    <a:chOff x="0" y="228600"/>
                    <a:chExt cx="9144000" cy="685800"/>
                  </a:xfrm>
                </p:grpSpPr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0" y="228600"/>
                      <a:ext cx="9144000" cy="228600"/>
                      <a:chOff x="0" y="228600"/>
                      <a:chExt cx="9144000" cy="22860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0" y="2286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0" y="4572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0" y="685800"/>
                      <a:ext cx="9144000" cy="228600"/>
                      <a:chOff x="0" y="685800"/>
                      <a:chExt cx="9144000" cy="22860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0" y="6858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0" y="9144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0" y="1143000"/>
                    <a:ext cx="9144000" cy="685800"/>
                    <a:chOff x="0" y="1143000"/>
                    <a:chExt cx="9144000" cy="685800"/>
                  </a:xfrm>
                </p:grpSpPr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0" y="1143000"/>
                      <a:ext cx="9144000" cy="228600"/>
                      <a:chOff x="0" y="1143000"/>
                      <a:chExt cx="9144000" cy="22860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0" y="11430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0" y="13716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0" y="1600200"/>
                      <a:ext cx="9144000" cy="228600"/>
                      <a:chOff x="0" y="1600200"/>
                      <a:chExt cx="9144000" cy="22860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0" y="16002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0" y="18288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0" y="2057400"/>
                  <a:ext cx="9144000" cy="1600200"/>
                  <a:chOff x="0" y="2057400"/>
                  <a:chExt cx="9144000" cy="160020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0" y="2057400"/>
                    <a:ext cx="9144000" cy="685800"/>
                    <a:chOff x="0" y="2057400"/>
                    <a:chExt cx="9144000" cy="68580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0" y="2057400"/>
                      <a:ext cx="9144000" cy="228600"/>
                      <a:chOff x="0" y="2057400"/>
                      <a:chExt cx="9144000" cy="22860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0" y="20574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0" y="22860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0" y="2514600"/>
                      <a:ext cx="9144000" cy="228600"/>
                      <a:chOff x="0" y="2514600"/>
                      <a:chExt cx="9144000" cy="22860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0" y="25146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0" y="27432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0" y="2971800"/>
                    <a:ext cx="9144000" cy="685800"/>
                    <a:chOff x="0" y="2971800"/>
                    <a:chExt cx="9144000" cy="68580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0" y="2971800"/>
                      <a:ext cx="9144000" cy="228600"/>
                      <a:chOff x="0" y="2971800"/>
                      <a:chExt cx="9144000" cy="22860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0" y="29718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0" y="32004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0" y="3429000"/>
                      <a:ext cx="9144000" cy="228600"/>
                      <a:chOff x="0" y="3429000"/>
                      <a:chExt cx="9144000" cy="22860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0" y="34290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0" y="3657600"/>
                        <a:ext cx="914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ec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0" y="3886200"/>
                <a:ext cx="9144000" cy="685800"/>
                <a:chOff x="0" y="3886200"/>
                <a:chExt cx="9144000" cy="68580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0" y="3886200"/>
                  <a:ext cx="9144000" cy="228600"/>
                  <a:chOff x="0" y="3886200"/>
                  <a:chExt cx="9144000" cy="2286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0" y="3886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0" y="4114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0" y="4343400"/>
                  <a:ext cx="9144000" cy="228600"/>
                  <a:chOff x="0" y="4343400"/>
                  <a:chExt cx="9144000" cy="2286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0" y="4343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"/>
              <p:cNvGrpSpPr/>
              <p:nvPr/>
            </p:nvGrpSpPr>
            <p:grpSpPr>
              <a:xfrm>
                <a:off x="0" y="4800600"/>
                <a:ext cx="9144000" cy="685800"/>
                <a:chOff x="0" y="4800600"/>
                <a:chExt cx="9144000" cy="685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0" y="4800600"/>
                  <a:ext cx="9144000" cy="228600"/>
                  <a:chOff x="0" y="4800600"/>
                  <a:chExt cx="9144000" cy="2286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0" y="4800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0" y="5029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0" y="5257800"/>
                  <a:ext cx="9144000" cy="228600"/>
                  <a:chOff x="0" y="5257800"/>
                  <a:chExt cx="9144000" cy="2286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0" y="5257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0" y="5715000"/>
                <a:ext cx="9144000" cy="228600"/>
                <a:chOff x="0" y="5715000"/>
                <a:chExt cx="9144000" cy="2286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0" y="5715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0" y="5943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0" y="6172200"/>
                <a:ext cx="9144000" cy="228600"/>
                <a:chOff x="0" y="6172200"/>
                <a:chExt cx="9144000" cy="22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0" y="6172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0" y="66294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6858000"/>
                <a:ext cx="9144000" cy="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0"/>
              <a:ext cx="0" cy="6858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0"/>
              <a:ext cx="0" cy="6858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228600"/>
              <a:ext cx="914400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685800"/>
              <a:ext cx="914400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3E81-4C0A-4193-857C-895EDBB7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2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2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2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EF7-7C3D-4719-A916-EA85F95567A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038-4F3B-4447-B4EE-4ED76B09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file:///&#1055;&#1083;&#1072;&#1082;&#1072;&#1090;%20&#1057;&#1084;&#1077;&#1078;&#1085;&#1099;&#1077;%20&#1091;&#1075;&#1083;&#1099;.ppt" TargetMode="Externa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"/><Relationship Id="rId3" Type="http://schemas.openxmlformats.org/officeDocument/2006/relationships/hyperlink" Target="file:///&#1058;&#1077;&#1089;&#1090;.ppt#Slide 1" TargetMode="External"/><Relationship Id="rId4" Type="http://schemas.openxmlformats.org/officeDocument/2006/relationships/slide" Target="slide33.xml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6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56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8"/>
          <p:cNvSpPr/>
          <p:nvPr/>
        </p:nvSpPr>
        <p:spPr>
          <a:xfrm rot="18336000">
            <a:off x="408600" y="822960"/>
            <a:ext cx="2565360" cy="1439640"/>
          </a:xfrm>
          <a:prstGeom prst="parallelogram">
            <a:avLst>
              <a:gd name="adj" fmla="val 4454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 rot="21388800">
            <a:off x="5508360" y="4581360"/>
            <a:ext cx="3024000" cy="1873440"/>
          </a:xfrm>
          <a:prstGeom prst="parallelogram">
            <a:avLst>
              <a:gd name="adj" fmla="val 40354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6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 rot="20532000">
            <a:off x="899640" y="2923920"/>
            <a:ext cx="6840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Смежные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угл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4262400"/>
            <a:ext cx="5183280" cy="2595600"/>
            <a:chOff x="0" y="4262400"/>
            <a:chExt cx="5183280" cy="2595600"/>
          </a:xfrm>
        </p:grpSpPr>
        <p:grpSp>
          <p:nvGrpSpPr>
            <p:cNvPr id="420" name=""/>
            <p:cNvGrpSpPr/>
            <p:nvPr/>
          </p:nvGrpSpPr>
          <p:grpSpPr>
            <a:xfrm>
              <a:off x="0" y="4262400"/>
              <a:ext cx="5183280" cy="2595600"/>
              <a:chOff x="0" y="4262400"/>
              <a:chExt cx="5183280" cy="2595600"/>
            </a:xfrm>
          </p:grpSpPr>
          <p:pic>
            <p:nvPicPr>
              <p:cNvPr id="421" name="Picture 6" descr="000803_1068_6769_vuvv"/>
              <p:cNvPicPr/>
              <p:nvPr/>
            </p:nvPicPr>
            <p:blipFill>
              <a:blip r:embed="rId6"/>
              <a:stretch/>
            </p:blipFill>
            <p:spPr>
              <a:xfrm>
                <a:off x="0" y="4262400"/>
                <a:ext cx="5183280" cy="25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AutoShape 8"/>
              <p:cNvSpPr/>
              <p:nvPr/>
            </p:nvSpPr>
            <p:spPr>
              <a:xfrm rot="19227600">
                <a:off x="1366920" y="4765680"/>
                <a:ext cx="1224000" cy="771480"/>
              </a:xfrm>
              <a:prstGeom prst="parallelogram">
                <a:avLst>
                  <a:gd name="adj" fmla="val 39664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 rot="19088400">
              <a:off x="2843280" y="5198760"/>
              <a:ext cx="1152360" cy="7938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1061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-174960" y="6156360"/>
            <a:ext cx="49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Степченкова Софья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МОУ СОШ № 27, г. Балаш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 rot="20240400">
            <a:off x="790200" y="801360"/>
            <a:ext cx="2376360" cy="1152360"/>
          </a:xfrm>
          <a:prstGeom prst="parallelogram">
            <a:avLst>
              <a:gd name="adj" fmla="val 515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651640" y="4724280"/>
            <a:ext cx="2736720" cy="172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516360" y="4581360"/>
            <a:ext cx="57636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0.08907 -0.00185 0.1349 0.00301 0.20834 -0.01503 C 0.23247 -0.02105 0.25695 -0.02567 0.28091 -0.03191 C 0.29358 -0.03515 0.31927 -0.04024 0.31927 -0.04001 C 0.33039 -0.04487 0.34323 -0.04648 0.35486 -0.0488 C 0.36858 -0.05504 0.38316 -0.05458 0.3974 -0.06036 C 0.40799 -0.06475 0.4158 -0.07077 0.42605 -0.07562 C 0.43212 -0.0784 0.4382 -0.07979 0.44393 -0.08395 C 0.45486 -0.09181 0.46528 -0.1013 0.47535 -0.11101 C 0.479 -0.11425 0.48629 -0.12095 0.48629 -0.12072 C 0.4908 -0.13136 0.49948 -0.13691 0.50556 -0.14616 C 0.50886 -0.15634 0.51441 -0.16212 0.51927 -0.1716 C 0.52396 -0.18062 0.52709 -0.19056 0.5316 -0.20005 C 0.53577 -0.2197 0.529 -0.19056 0.53698 -0.21508 C 0.53837 -0.21947 0.53837 -0.22433 0.53976 -0.22872 C 0.54358 -0.24075 0.5474 -0.25254 0.55209 -0.26411 C 0.55261 -0.26688 0.55261 -0.26966 0.55348 -0.27243 C 0.55452 -0.27521 0.55677 -0.27775 0.55764 -0.28053 C 0.5592 -0.28608 0.55886 -0.29209 0.56042 -0.29741 C 0.56129 -0.30019 0.56216 -0.30319 0.56302 -0.30597 C 0.56407 -0.31915 0.56511 -0.33187 0.56719 -0.34459 C 0.56806 -0.358 0.57032 -0.37142 0.56997 -0.38506 C 0.56927 -0.40865 0.56563 -0.42808 0.56164 -0.45051 C 0.55973 -0.46068 0.55955 -0.47502 0.55209 -0.4808 C 0.54757 -0.49029 0.54306 -0.49907 0.53438 -0.50278 C 0.52622 -0.51272 0.53177 -0.50671 0.5165 -0.51966 C 0.51337 -0.52243 0.51198 -0.52821 0.50834 -0.5296 C 0.49775 -0.534 0.48733 -0.53908 0.47674 -0.54302 C 0.46684 -0.5525 0.45747 -0.55481 0.44532 -0.55828 C 0.43525 -0.56105 0.4217 -0.56661 0.41094 -0.56661 E">
                                      <p:cBhvr>
                                        <p:cTn id="10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95280" y="3336840"/>
            <a:ext cx="2950920" cy="3522240"/>
            <a:chOff x="395280" y="3336840"/>
            <a:chExt cx="2950920" cy="3522240"/>
          </a:xfrm>
        </p:grpSpPr>
        <p:sp>
          <p:nvSpPr>
            <p:cNvPr id="473" name=""/>
            <p:cNvSpPr/>
            <p:nvPr/>
          </p:nvSpPr>
          <p:spPr>
            <a:xfrm>
              <a:off x="1258920" y="62164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(1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95280" y="3336840"/>
              <a:ext cx="1403280" cy="2303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330200" y="3408120"/>
              <a:ext cx="432000" cy="2735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62200" y="3336840"/>
              <a:ext cx="1584000" cy="2735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635280" y="3623760"/>
            <a:ext cx="2736720" cy="3235320"/>
            <a:chOff x="3635280" y="3623760"/>
            <a:chExt cx="2736720" cy="3235320"/>
          </a:xfrm>
        </p:grpSpPr>
        <p:sp>
          <p:nvSpPr>
            <p:cNvPr id="478" name=""/>
            <p:cNvSpPr/>
            <p:nvPr/>
          </p:nvSpPr>
          <p:spPr>
            <a:xfrm flipV="1">
              <a:off x="4572000" y="3623760"/>
              <a:ext cx="1439640" cy="2303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35280" y="5927760"/>
              <a:ext cx="273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8920" y="621648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35280" y="5927760"/>
              <a:ext cx="273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4572000" y="3623760"/>
              <a:ext cx="1439640" cy="2303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35280" y="5927760"/>
              <a:ext cx="27367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659640" y="3623760"/>
            <a:ext cx="2340000" cy="3235680"/>
            <a:chOff x="6659640" y="3623760"/>
            <a:chExt cx="2340000" cy="3235680"/>
          </a:xfrm>
        </p:grpSpPr>
        <p:sp>
          <p:nvSpPr>
            <p:cNvPr id="485" name=""/>
            <p:cNvSpPr/>
            <p:nvPr/>
          </p:nvSpPr>
          <p:spPr>
            <a:xfrm>
              <a:off x="7164360" y="621684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(3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96000" y="3839760"/>
              <a:ext cx="1403640" cy="2303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596000" y="3623760"/>
              <a:ext cx="503280" cy="2519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659640" y="3623760"/>
              <a:ext cx="1403280" cy="2303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116000" y="90792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 каком из рисунков изображены смежные уг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755640" y="4252320"/>
            <a:ext cx="2583000" cy="2447640"/>
            <a:chOff x="755640" y="4252320"/>
            <a:chExt cx="2583000" cy="2447640"/>
          </a:xfrm>
        </p:grpSpPr>
        <p:sp>
          <p:nvSpPr>
            <p:cNvPr id="491" name=""/>
            <p:cNvSpPr/>
            <p:nvPr/>
          </p:nvSpPr>
          <p:spPr>
            <a:xfrm flipH="1" flipV="1">
              <a:off x="1869120" y="4252320"/>
              <a:ext cx="786240" cy="1265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062080" y="4279320"/>
              <a:ext cx="1276560" cy="2420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5640" y="595008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(4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580000" y="2781360"/>
            <a:ext cx="3241800" cy="4076280"/>
            <a:chOff x="5580000" y="2781360"/>
            <a:chExt cx="3241800" cy="4076280"/>
          </a:xfrm>
        </p:grpSpPr>
        <p:sp>
          <p:nvSpPr>
            <p:cNvPr id="495" name=""/>
            <p:cNvSpPr/>
            <p:nvPr/>
          </p:nvSpPr>
          <p:spPr>
            <a:xfrm flipH="1" flipV="1">
              <a:off x="6948000" y="4723920"/>
              <a:ext cx="142920" cy="1916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235640" y="4724280"/>
              <a:ext cx="144360" cy="19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236000" y="2781360"/>
              <a:ext cx="1512720" cy="19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580000" y="4770000"/>
              <a:ext cx="1368360" cy="2087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85080" y="551664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(5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1116000" y="90792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 каком из рисунков изображены смежные уг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85928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340000" y="2204640"/>
            <a:ext cx="2160720" cy="3529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11280" y="3789000"/>
            <a:ext cx="489744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16000" y="9079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йдите и запишите смежные 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306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56000" y="386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35280" y="220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19280" y="49417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306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85928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492360" y="2204640"/>
            <a:ext cx="1008360" cy="1655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11280" y="3789000"/>
            <a:ext cx="4897440" cy="14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90792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йдите и запишите смежные 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306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635280" y="2205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35280" y="2492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32360" y="306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2339640" y="2276640"/>
            <a:ext cx="1150920" cy="1582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24000" y="3645000"/>
            <a:ext cx="8353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Построение</a:t>
            </a:r>
            <a:endParaRPr b="0" lang="en-US" sz="40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межных углов</a:t>
            </a:r>
            <a:endParaRPr b="0" lang="en-US" sz="40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292720" y="1916280"/>
            <a:ext cx="2016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2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40560" y="961560"/>
            <a:ext cx="3133440" cy="2055240"/>
            <a:chOff x="340560" y="961560"/>
            <a:chExt cx="3133440" cy="2055240"/>
          </a:xfrm>
        </p:grpSpPr>
        <p:sp>
          <p:nvSpPr>
            <p:cNvPr id="522" name="AutoShape 8"/>
            <p:cNvSpPr/>
            <p:nvPr/>
          </p:nvSpPr>
          <p:spPr>
            <a:xfrm rot="21388800">
              <a:off x="394920" y="1052640"/>
              <a:ext cx="3024000" cy="1873080"/>
            </a:xfrm>
            <a:prstGeom prst="parallelogram">
              <a:avLst>
                <a:gd name="adj" fmla="val 40361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61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38200" y="1195200"/>
              <a:ext cx="2736720" cy="172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402920" y="1052640"/>
              <a:ext cx="57636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5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5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85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385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385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385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55640" y="404640"/>
            <a:ext cx="6769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чертить уго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 ряд о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2 ряд ту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3 ряд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4005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Начертить углы, смежные с дан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360" y="5300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Сделать 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40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Для каждого угла можно построить два смежных с ним уг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530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Угол, смежный с прямым углом, является прям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2421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Угол, смежный с острым углом, является туп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86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Угол, смежный с тупым углом, является остр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24000" y="2276640"/>
            <a:ext cx="835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Свойство смежных </a:t>
            </a:r>
            <a:endParaRPr b="0" lang="en-US" sz="40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углов </a:t>
            </a:r>
            <a:endParaRPr b="0" lang="en-US" sz="40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084720" y="1197000"/>
            <a:ext cx="20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3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4" name="Picture 5" descr="Муза"/>
          <p:cNvPicPr/>
          <p:nvPr/>
        </p:nvPicPr>
        <p:blipFill>
          <a:blip r:embed="rId1"/>
          <a:stretch/>
        </p:blipFill>
        <p:spPr>
          <a:xfrm>
            <a:off x="0" y="3865680"/>
            <a:ext cx="2414520" cy="299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5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2143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Для всякой ли пары смежных углов выполняется равенство:</a:t>
            </a: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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АОС+</a:t>
            </a:r>
            <a:r>
              <a:rPr b="1" i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</a:t>
            </a: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ВОС=180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00000" y="2637000"/>
            <a:ext cx="7845480" cy="3804480"/>
            <a:chOff x="900000" y="2637000"/>
            <a:chExt cx="7845480" cy="3804480"/>
          </a:xfrm>
        </p:grpSpPr>
        <p:sp>
          <p:nvSpPr>
            <p:cNvPr id="537" name="Прямая соединительная линия 4"/>
            <p:cNvSpPr/>
            <p:nvPr/>
          </p:nvSpPr>
          <p:spPr>
            <a:xfrm>
              <a:off x="1115640" y="5654520"/>
              <a:ext cx="7215480" cy="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6"/>
            <p:cNvSpPr/>
            <p:nvPr/>
          </p:nvSpPr>
          <p:spPr>
            <a:xfrm flipV="1">
              <a:off x="4074120" y="2993760"/>
              <a:ext cx="2357640" cy="2643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9"/>
            <p:cNvSpPr/>
            <p:nvPr/>
          </p:nvSpPr>
          <p:spPr>
            <a:xfrm>
              <a:off x="900000" y="49352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10"/>
            <p:cNvSpPr/>
            <p:nvPr/>
          </p:nvSpPr>
          <p:spPr>
            <a:xfrm>
              <a:off x="6503760" y="263700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1"/>
            <p:cNvSpPr/>
            <p:nvPr/>
          </p:nvSpPr>
          <p:spPr>
            <a:xfrm>
              <a:off x="8173800" y="500688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12"/>
            <p:cNvSpPr/>
            <p:nvPr/>
          </p:nvSpPr>
          <p:spPr>
            <a:xfrm>
              <a:off x="3781080" y="579888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3" name="Picture 9" descr="j0232723"/>
          <p:cNvPicPr/>
          <p:nvPr/>
        </p:nvPicPr>
        <p:blipFill>
          <a:blip r:embed="rId1"/>
          <a:stretch/>
        </p:blipFill>
        <p:spPr>
          <a:xfrm>
            <a:off x="395280" y="3141720"/>
            <a:ext cx="187308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76364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00720" y="3357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84720" y="3213000"/>
            <a:ext cx="730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80000" y="3429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284720" y="620640"/>
            <a:ext cx="172728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836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0" y="3212640"/>
            <a:ext cx="9144000" cy="7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5640" y="4869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Сумма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смежных углов равна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180 градусам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Цель урока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Знать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пределение прямого, тупого, острого и смежных углов; формулировку и доказательство теоремы о смежных угл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Научить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роить угол, смежный с данным, находить смежные углы на чертеже, решать задачи с использованием свойств смежных уг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403280" y="26028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Теорема 2.1</a:t>
            </a:r>
            <a:endParaRPr b="1" lang="en-US" sz="2000" spc="1" strike="noStrike">
              <a:ln w="1908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479736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Дано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:  </a:t>
            </a:r>
            <a:r>
              <a:rPr b="1" i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ОС, </a:t>
            </a:r>
            <a:r>
              <a:rPr b="1" i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ОС – смеж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Доказать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: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ОС+</a:t>
            </a:r>
            <a:r>
              <a:rPr b="1" i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ОС=180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298520" y="260280"/>
            <a:ext cx="7845480" cy="3804840"/>
            <a:chOff x="1298520" y="260280"/>
            <a:chExt cx="7845480" cy="3804840"/>
          </a:xfrm>
        </p:grpSpPr>
        <p:sp>
          <p:nvSpPr>
            <p:cNvPr id="555" name="Прямая соединительная линия 4"/>
            <p:cNvSpPr/>
            <p:nvPr/>
          </p:nvSpPr>
          <p:spPr>
            <a:xfrm>
              <a:off x="1514160" y="3278160"/>
              <a:ext cx="7215480" cy="14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Прямая соединительная линия 6"/>
            <p:cNvSpPr/>
            <p:nvPr/>
          </p:nvSpPr>
          <p:spPr>
            <a:xfrm flipV="1">
              <a:off x="4472640" y="617040"/>
              <a:ext cx="2357640" cy="26434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9"/>
            <p:cNvSpPr/>
            <p:nvPr/>
          </p:nvSpPr>
          <p:spPr>
            <a:xfrm>
              <a:off x="1298520" y="25588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10"/>
            <p:cNvSpPr/>
            <p:nvPr/>
          </p:nvSpPr>
          <p:spPr>
            <a:xfrm>
              <a:off x="6902280" y="26028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11"/>
            <p:cNvSpPr/>
            <p:nvPr/>
          </p:nvSpPr>
          <p:spPr>
            <a:xfrm>
              <a:off x="8572320" y="263052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12"/>
            <p:cNvSpPr/>
            <p:nvPr/>
          </p:nvSpPr>
          <p:spPr>
            <a:xfrm>
              <a:off x="4179600" y="342252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85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385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1" dur="385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3" dur="385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33336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Если два угла равны, то смежные с ними 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160" y="333360"/>
            <a:ext cx="68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Если два угла равны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смежные с ним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авны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975280" y="3860280"/>
            <a:ext cx="1584360" cy="223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75280" y="6093000"/>
            <a:ext cx="280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924000" y="6093000"/>
            <a:ext cx="20509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04000" y="5587920"/>
            <a:ext cx="86328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616720" y="5732640"/>
            <a:ext cx="115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327640" y="5516640"/>
            <a:ext cx="216144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268360" y="1989000"/>
            <a:ext cx="1584360" cy="2232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66920" y="4221000"/>
            <a:ext cx="280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15640" y="4221000"/>
            <a:ext cx="20509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95640" y="3716280"/>
            <a:ext cx="86328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908000" y="3860640"/>
            <a:ext cx="1152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619280" y="3645000"/>
            <a:ext cx="21614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4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68360" y="33336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Угол, смежный с прямым, является …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4880" y="333360"/>
            <a:ext cx="71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Угол, смежный с прямы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является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ямым углом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95640" y="1916280"/>
            <a:ext cx="0" cy="230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95640" y="4221000"/>
            <a:ext cx="2808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15640" y="4221000"/>
            <a:ext cx="20509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195640" y="3789360"/>
            <a:ext cx="504720" cy="431640"/>
            <a:chOff x="2195640" y="3789360"/>
            <a:chExt cx="504720" cy="431640"/>
          </a:xfrm>
        </p:grpSpPr>
        <p:sp>
          <p:nvSpPr>
            <p:cNvPr id="581" name=""/>
            <p:cNvSpPr/>
            <p:nvPr/>
          </p:nvSpPr>
          <p:spPr>
            <a:xfrm>
              <a:off x="2195640" y="3789360"/>
              <a:ext cx="5047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00360" y="3789360"/>
              <a:ext cx="0" cy="4316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692360" y="3789360"/>
            <a:ext cx="504720" cy="431640"/>
            <a:chOff x="1692360" y="3789360"/>
            <a:chExt cx="504720" cy="431640"/>
          </a:xfrm>
        </p:grpSpPr>
        <p:sp>
          <p:nvSpPr>
            <p:cNvPr id="584" name=""/>
            <p:cNvSpPr/>
            <p:nvPr/>
          </p:nvSpPr>
          <p:spPr>
            <a:xfrm>
              <a:off x="1692360" y="3789360"/>
              <a:ext cx="5047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2360" y="3789360"/>
              <a:ext cx="0" cy="4316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5904000" y="3644640"/>
            <a:ext cx="0" cy="230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5950080"/>
            <a:ext cx="280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924000" y="5950080"/>
            <a:ext cx="205092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04000" y="5516640"/>
            <a:ext cx="504720" cy="433440"/>
            <a:chOff x="5904000" y="5516640"/>
            <a:chExt cx="504720" cy="433440"/>
          </a:xfrm>
        </p:grpSpPr>
        <p:sp>
          <p:nvSpPr>
            <p:cNvPr id="590" name=""/>
            <p:cNvSpPr/>
            <p:nvPr/>
          </p:nvSpPr>
          <p:spPr>
            <a:xfrm>
              <a:off x="5904000" y="5518080"/>
              <a:ext cx="5047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2360" y="5516640"/>
              <a:ext cx="0" cy="43344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400720" y="5518080"/>
            <a:ext cx="504720" cy="432000"/>
            <a:chOff x="5400720" y="5518080"/>
            <a:chExt cx="504720" cy="432000"/>
          </a:xfrm>
        </p:grpSpPr>
        <p:sp>
          <p:nvSpPr>
            <p:cNvPr id="593" name=""/>
            <p:cNvSpPr/>
            <p:nvPr/>
          </p:nvSpPr>
          <p:spPr>
            <a:xfrm>
              <a:off x="5400720" y="5518080"/>
              <a:ext cx="5047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00720" y="5518080"/>
              <a:ext cx="0" cy="43200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385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385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385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385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5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385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385" fill="hold"/>
                                        <p:tgtEl>
                                          <p:spTgt spid="5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385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385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85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385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385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385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385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385" fill="hold"/>
                                        <p:tgtEl>
                                          <p:spTgt spid="5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0" dur="385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385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385" fill="hold"/>
                                        <p:tgtEl>
                                          <p:spTgt spid="5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9" dur="38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385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2" dur="385" fill="hold"/>
                                        <p:tgtEl>
                                          <p:spTgt spid="5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4" dur="385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6" dur="385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85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385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385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385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385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385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385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385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385" fill="hold"/>
                                        <p:tgtEl>
                                          <p:spTgt spid="5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3" dur="38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6" descr="C:\Users\Лена\Pictures\Организатор клипов (Microsoft)\j0359587.wmf"/>
          <p:cNvPicPr/>
          <p:nvPr/>
        </p:nvPicPr>
        <p:blipFill>
          <a:blip r:embed="rId1"/>
          <a:stretch/>
        </p:blipFill>
        <p:spPr>
          <a:xfrm>
            <a:off x="0" y="0"/>
            <a:ext cx="3286080" cy="29113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J0295069"/>
          <p:cNvPicPr/>
          <p:nvPr/>
        </p:nvPicPr>
        <p:blipFill>
          <a:blip r:embed="rId2"/>
          <a:stretch/>
        </p:blipFill>
        <p:spPr>
          <a:xfrm>
            <a:off x="6588000" y="189000"/>
            <a:ext cx="2333880" cy="16779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1547640" y="1989000"/>
            <a:ext cx="619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Решение задач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98" name="Picture 15" descr="C:\Users\Лена\Pictures\Организатор клипов (Microsoft)\j0396742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00920" y="4454640"/>
            <a:ext cx="2143080" cy="24033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3995640" y="404640"/>
            <a:ext cx="20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4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7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7" dur="770" fill="hold"/>
                                        <p:tgtEl>
                                          <p:spTgt spid="5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755640" y="4869000"/>
            <a:ext cx="1943280" cy="17478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3276720" y="18900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1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79280" y="83664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Составить задачу на вычисление величин смежных углов, которая бы решалась бы с помощью уравн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х + (х – 20)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= 1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80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х + 5 х = 18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385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385" fill="hold"/>
                                        <p:tgtEl>
                                          <p:spTgt spid="6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385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385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5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276720" y="26028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2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05264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Составить задачу на вычисление величин смежных углов, которая бы имела ответы 60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 и 120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611280" y="4149720"/>
            <a:ext cx="2087640" cy="18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385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385" fill="hold"/>
                                        <p:tgtEl>
                                          <p:spTgt spid="6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385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385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2000" fill="hold"/>
                                        <p:tgtEl>
                                          <p:spTgt spid="6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276720" y="26028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3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7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250920" y="4653000"/>
            <a:ext cx="2087640" cy="18781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250920" y="981000"/>
            <a:ext cx="853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Один из смежных углов больше другого на 60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. Известно, что он в 2 раза больше другого. Найти эти углы. Нет ли в задаче лишних данных?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385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385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385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385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8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276720" y="26028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4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10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468360" y="3933720"/>
            <a:ext cx="2087640" cy="18781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79280" y="1268280"/>
            <a:ext cx="86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Один из смежных углов увеличили на 10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. Как при этом изменился второй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38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385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38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385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7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276720" y="26028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5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13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468360" y="3933720"/>
            <a:ext cx="2087640" cy="1878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79280" y="1268280"/>
            <a:ext cx="86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Один из смежных углов увеличили в 10 раз. Как при этом изменился второй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385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385" fill="hold"/>
                                        <p:tgtEl>
                                          <p:spTgt spid="6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2" dur="38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4" dur="38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6" dur="2000" fill="hold"/>
                                        <p:tgtEl>
                                          <p:spTgt spid="6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276720" y="260280"/>
            <a:ext cx="180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№ </a:t>
            </a:r>
            <a:r>
              <a:rPr b="1" lang="en-US" sz="20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16</a:t>
            </a:r>
            <a:endParaRPr b="1" lang="en-US" sz="2000" spc="1" strike="noStrike">
              <a:ln w="19080">
                <a:solidFill>
                  <a:srgbClr val="cc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16" name="Picture 3" descr="C:\Users\Лена\Pictures\Организатор клипов (Microsoft)\j0423820.wmf"/>
          <p:cNvPicPr/>
          <p:nvPr/>
        </p:nvPicPr>
        <p:blipFill>
          <a:blip r:embed="rId1"/>
          <a:stretch/>
        </p:blipFill>
        <p:spPr>
          <a:xfrm>
            <a:off x="1187280" y="3645000"/>
            <a:ext cx="2087640" cy="18777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780000" y="422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Проверим ре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1268280"/>
            <a:ext cx="76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Найти угол между биссектрисами смежных угл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385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385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38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38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5" dur="2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79280" y="333360"/>
            <a:ext cx="896472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7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зучение нового матери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пределе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строение смежных угл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войства смежных уг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ешение зад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тоги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70000"/>
              </a:lnSpc>
              <a:spcBef>
                <a:spcPts val="2200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3"/>
          <p:cNvSpPr/>
          <p:nvPr/>
        </p:nvSpPr>
        <p:spPr>
          <a:xfrm>
            <a:off x="2315520" y="40464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Решение задачи № 1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179280" y="400536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Т.к. биссектриса делит угол пополам, то половинки углов в сумме дадут 9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0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. Значит, угол между биссектрисами смежных углов равен 9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0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13440" y="2997360"/>
            <a:ext cx="1294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767600">
            <a:off x="2711520" y="3167640"/>
            <a:ext cx="64080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7218200">
            <a:off x="2320560" y="3179880"/>
            <a:ext cx="11530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688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6880"/>
              </a:path>
            </a:pathLst>
          </a:custGeom>
          <a:noFill/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3429000"/>
            <a:ext cx="51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50920" y="1125360"/>
            <a:ext cx="1224000" cy="23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97360" y="2143080"/>
                <a:ext cx="615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332000" y="1125360"/>
                <a:ext cx="453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H="1">
            <a:off x="3276720" y="1052640"/>
            <a:ext cx="122400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4360" y="2060640"/>
            <a:ext cx="251928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059280" y="1484280"/>
                <a:ext cx="615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68360" y="2205000"/>
                <a:ext cx="453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6" descr="C:\Users\Лена\Pictures\Организатор клипов (Microsoft)\j0359587.wmf"/>
          <p:cNvPicPr/>
          <p:nvPr/>
        </p:nvPicPr>
        <p:blipFill>
          <a:blip r:embed="rId1"/>
          <a:stretch/>
        </p:blipFill>
        <p:spPr>
          <a:xfrm>
            <a:off x="0" y="0"/>
            <a:ext cx="3286080" cy="29113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J0295069"/>
          <p:cNvPicPr/>
          <p:nvPr/>
        </p:nvPicPr>
        <p:blipFill>
          <a:blip r:embed="rId2"/>
          <a:stretch/>
        </p:blipFill>
        <p:spPr>
          <a:xfrm>
            <a:off x="6588000" y="189000"/>
            <a:ext cx="2333880" cy="1677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 txBox="1"/>
          <p:nvPr/>
        </p:nvSpPr>
        <p:spPr>
          <a:xfrm>
            <a:off x="250920" y="3429000"/>
            <a:ext cx="561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Итоги урока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95640" y="1557360"/>
            <a:ext cx="24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5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6" name="Picture 5" descr="Муза"/>
          <p:cNvPicPr/>
          <p:nvPr/>
        </p:nvPicPr>
        <p:blipFill>
          <a:blip r:embed="rId3"/>
          <a:stretch/>
        </p:blipFill>
        <p:spPr>
          <a:xfrm>
            <a:off x="6729480" y="3865680"/>
            <a:ext cx="2414520" cy="299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77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8" dur="770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0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2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одведем итог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Какие углы называютс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межными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Сколько углов, смежных с данным,  можно постро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Свойства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Comic Sans MS"/>
              </a:rPr>
              <a:t> смежны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2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Диагностическа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самостоятельная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Comic Sans MS"/>
              </a:rPr>
              <a:t>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2814480" cy="38894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132000" y="1989000"/>
            <a:ext cx="5832720" cy="1295640"/>
          </a:xfrm>
          <a:prstGeom prst="wedgeRoundRectCallout">
            <a:avLst>
              <a:gd name="adj1" fmla="val -70032"/>
              <a:gd name="adj2" fmla="val 8946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Выучить теорию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35280" y="3645000"/>
            <a:ext cx="5184720" cy="2016000"/>
          </a:xfrm>
          <a:prstGeom prst="wedgeRoundRectCallout">
            <a:avLst>
              <a:gd name="adj1" fmla="val -84875"/>
              <a:gd name="adj2" fmla="val -43148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  № 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№ 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3 (</a:t>
            </a:r>
            <a:r>
              <a:rPr b="1" i="1" lang="en-US" sz="3600" spc="-1" strike="noStrike">
                <a:solidFill>
                  <a:srgbClr val="008000"/>
                </a:solidFill>
                <a:latin typeface="Georgia"/>
              </a:rPr>
              <a:t>дано…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№ 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79280" y="0"/>
            <a:ext cx="3419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омашнее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дание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2" name="">
            <a:hlinkClick r:id="" action="ppaction://hlinkshowjump?jump=endshow"/>
          </p:cNvPr>
          <p:cNvSpPr/>
          <p:nvPr/>
        </p:nvSpPr>
        <p:spPr>
          <a:xfrm>
            <a:off x="5076720" y="6021360"/>
            <a:ext cx="1295640" cy="647640"/>
          </a:xfrm>
          <a:custGeom>
            <a:avLst/>
            <a:gdLst>
              <a:gd name="textAreaLeft" fmla="*/ 41760 w 1295640"/>
              <a:gd name="textAreaRight" fmla="*/ 1253880 w 1295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5493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Два угла называются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смежными</a:t>
            </a: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, если у них одна сторона общая, а две другие стороны этих углов являются дополнительными полупрямы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rId1" action="ppaction://hlinksldjump"/>
          </p:cNvPr>
          <p:cNvSpPr/>
          <p:nvPr/>
        </p:nvSpPr>
        <p:spPr>
          <a:xfrm>
            <a:off x="7236000" y="5084640"/>
            <a:ext cx="792000" cy="1297080"/>
          </a:xfrm>
          <a:prstGeom prst="upArrow">
            <a:avLst>
              <a:gd name="adj1" fmla="val 50000"/>
              <a:gd name="adj2" fmla="val 409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1" descr="C:\Users\Лена\Pictures\Организатор клипов (Microsoft)\j0428113.wmf"/>
          <p:cNvPicPr/>
          <p:nvPr/>
        </p:nvPicPr>
        <p:blipFill>
          <a:blip r:embed="rId2"/>
          <a:stretch/>
        </p:blipFill>
        <p:spPr>
          <a:xfrm>
            <a:off x="0" y="4365720"/>
            <a:ext cx="230832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66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Сумма смежных углов равна 180</a:t>
            </a:r>
            <a:r>
              <a:rPr b="1" lang="en-US" sz="3800" spc="-1" strike="noStrike" baseline="30000">
                <a:solidFill>
                  <a:srgbClr val="663300"/>
                </a:solidFill>
                <a:latin typeface="Comic Sans MS"/>
              </a:rPr>
              <a:t>0</a:t>
            </a: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57336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6633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Угол, смежный с прямым углом, является прямы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9079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6633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Угол, смежный с острым углом, является тупы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2205000"/>
            <a:ext cx="889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6633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Угол, смежный с тупым углом, является остры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5013360"/>
            <a:ext cx="8101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6633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3300"/>
                </a:solidFill>
                <a:latin typeface="Comic Sans MS"/>
              </a:rPr>
              <a:t>Если два угла равны, то смежные с ними тоже равн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rId1" action="ppaction://hlinksldjump"/>
          </p:cNvPr>
          <p:cNvSpPr/>
          <p:nvPr/>
        </p:nvSpPr>
        <p:spPr>
          <a:xfrm>
            <a:off x="7885080" y="4724280"/>
            <a:ext cx="827280" cy="1368720"/>
          </a:xfrm>
          <a:prstGeom prst="upArrow">
            <a:avLst>
              <a:gd name="adj1" fmla="val 50000"/>
              <a:gd name="adj2" fmla="val 413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24000" y="3645000"/>
            <a:ext cx="83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Определение </a:t>
            </a:r>
            <a:endParaRPr b="0" lang="en-US" sz="40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292720" y="1916280"/>
            <a:ext cx="2016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ь 1</a:t>
            </a:r>
            <a:endParaRPr b="0" lang="en-US" sz="1800" spc="1" strike="noStrike">
              <a:ln w="0">
                <a:noFill/>
              </a:ln>
              <a:solidFill>
                <a:srgbClr val="0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40560" y="961560"/>
            <a:ext cx="3133440" cy="2055240"/>
            <a:chOff x="340560" y="961560"/>
            <a:chExt cx="3133440" cy="2055240"/>
          </a:xfrm>
        </p:grpSpPr>
        <p:sp>
          <p:nvSpPr>
            <p:cNvPr id="434" name="AutoShape 8"/>
            <p:cNvSpPr/>
            <p:nvPr/>
          </p:nvSpPr>
          <p:spPr>
            <a:xfrm rot="21388800">
              <a:off x="394920" y="1052640"/>
              <a:ext cx="3024000" cy="1873080"/>
            </a:xfrm>
            <a:prstGeom prst="parallelogram">
              <a:avLst>
                <a:gd name="adj" fmla="val 40361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61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38200" y="1195200"/>
              <a:ext cx="2736720" cy="172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402920" y="1052640"/>
              <a:ext cx="57636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85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385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385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 flipV="1">
            <a:off x="0" y="4365720"/>
            <a:ext cx="9144000" cy="7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63640" y="458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00720" y="4510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01520" y="765000"/>
            <a:ext cx="72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оведите прямую А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 flipV="1">
            <a:off x="0" y="4365720"/>
            <a:ext cx="9144000" cy="7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763640" y="458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00720" y="4510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67280" y="4292640"/>
            <a:ext cx="21564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80000" y="4581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4080" y="692280"/>
            <a:ext cx="74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тметьте точку  С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є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flipV="1">
            <a:off x="0" y="4365720"/>
            <a:ext cx="9144000" cy="7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63640" y="458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00720" y="4510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84720" y="4365720"/>
            <a:ext cx="73080" cy="73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0" y="4581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284720" y="1773000"/>
            <a:ext cx="1727280" cy="266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6000" y="198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72960" y="620640"/>
            <a:ext cx="54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роведите луч С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9280" y="692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пишите получившиеся уг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Текст 29"/>
              <p:cNvSpPr txBox="1"/>
              <p:nvPr/>
            </p:nvSpPr>
            <p:spPr>
              <a:xfrm>
                <a:off x="755640" y="2133720"/>
                <a:ext cx="2665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С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Текст 29"/>
              <p:cNvSpPr txBox="1"/>
              <p:nvPr/>
            </p:nvSpPr>
            <p:spPr>
              <a:xfrm>
                <a:off x="4284720" y="2349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Текст 29"/>
              <p:cNvSpPr txBox="1"/>
              <p:nvPr/>
            </p:nvSpPr>
            <p:spPr>
              <a:xfrm>
                <a:off x="6227640" y="2205000"/>
                <a:ext cx="2519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 flipV="1">
            <a:off x="0" y="2852280"/>
            <a:ext cx="9144000" cy="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63640" y="306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0072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2852640"/>
            <a:ext cx="73080" cy="730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80000" y="30686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284720" y="260280"/>
            <a:ext cx="1727280" cy="2664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84720" y="4762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789360"/>
            <a:ext cx="91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зовите стороны каждого из уг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95640" y="472428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к связаны между собой стороны угл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50920" y="249228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ва угла называются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смежными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, если у них одна сторона общая, а две другие стороны этих углов являются дополнительными полупря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973080" y="1125360"/>
                <a:ext cx="26654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С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502160" y="134136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24360" y="1125360"/>
                <a:ext cx="2519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6:30:14Z</dcterms:created>
  <dc:creator>Степченкова С.А.</dc:creator>
  <dc:description/>
  <dc:language>en-US</dc:language>
  <cp:lastModifiedBy>Unknown</cp:lastModifiedBy>
  <dcterms:modified xsi:type="dcterms:W3CDTF">2009-11-29T16:51:09Z</dcterms:modified>
  <cp:revision>31</cp:revision>
  <dc:subject/>
  <dc:title>Слайд 1</dc:title>
</cp:coreProperties>
</file>